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DC18-12B7-4424-897E-93751619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FF6-C5EB-402E-9FEA-FBAE33F7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971-2E26-4604-971F-B583B625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5BF-44DA-4F28-A629-5D90961C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8432-43A2-49E4-92E2-DC74AF19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EC2A-E0CA-4094-9A36-707FB800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14BA-153F-46C6-8125-EBF467BF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B2BB-05F9-48E5-80C4-40289163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B5C9-4345-46EC-B3E3-E5573B47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C4CF-4B2A-4E43-B35B-A5F8D157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737D-83A4-4405-9CCC-D8090642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924-C14D-46CD-95A5-841F4854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D0FE-283D-4FAC-BE06-D530C9AE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204B-B74C-4496-BD27-96857A74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9664-F8DB-4FDE-8D7B-33F9270F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D510-374F-4ABA-A479-7ADB9326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F921-6B24-4736-9A15-C823BBDE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1727-1C34-43BE-B905-FA668AFB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8D723-A5CD-4F34-8F6B-428D9472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E48C0-CCB5-426D-9897-1C7F90C8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DA6D8-204D-482F-A64D-79C1DFAC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88C5E-681F-4602-AADC-B267E682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367-AE93-4C89-9399-AF896930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CC69-1296-47AD-9FD3-4D8C2FE0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C2DAD-C4A9-449C-8732-2F23A5FB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57061-808A-4661-96F4-16676F82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0222-0F28-42C0-95D0-76B6AC6C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910B-81BD-432D-B629-C3330D48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70EC-2406-4914-A971-106C06D5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DB144-BBAF-4A1A-8B46-095B7C27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53730-3CC3-472B-BE52-A6D54338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D647C-05D0-4FC6-B8EE-20BB96B2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6C123-78C9-4559-9D01-1F2000C5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686-0A66-4001-923A-92CD1D8E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B4CD0-00C0-4AAD-96EA-D4729DAC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4DDC8-E37A-4389-A9F4-9F969F09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A1362-CDD6-476F-B71C-75F25810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C0AD2-5434-45DD-B69B-86C757D3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2CCA1-D46B-46D1-82DD-E53CBF40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9C4EA-BE28-4D6F-A6AC-58ACC8E6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981BD-2D25-4921-8E03-71D0A5F2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F7AF0-DEC8-4B87-A453-E23BD05E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710C7-64AA-4DEF-A791-ACB55488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A09C2-78ED-48F4-9010-38A2D390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545-2F7F-4822-96CC-EA289F66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4279D-33C6-4F77-B608-23F85278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3BC6B-BB95-4E8D-95E8-50ED1D32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0BE71-209F-4A27-97AE-8BDF1F0F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92337-3156-4455-BCB0-2F3B868D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07554-F210-4642-ADB9-D7FA0FF3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8DCF8-775A-4800-AF13-0D8CB3F6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A8614-9A1E-46DD-92C3-15ECF1D2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A9CDA-0163-4FC0-B03D-AE38DD24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662DD-1D43-4B42-ADF2-08CF9C83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316C9-7942-4F11-977C-77E99E3A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E05-443D-493D-8A53-7460E0C2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DB635-8839-4BDC-8D47-EE65E02D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8B2FB-3586-484C-A8C9-670BB8E1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69A18-FB99-46CC-BE3A-F9C3EE6B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FBC8F-E3F1-4DC3-9CDB-CBA65988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B9B0B-DA00-46DE-96E8-E85C5AA1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57C1C-A50C-413F-AEF3-B856F304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F805C-61D6-4780-B135-FE348A1E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AC6A1-584C-412D-A582-EF84B1F1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BBEE7-2CAB-4B7B-9AC3-D627C8DC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5234E-7A91-4EA8-B00E-62E3420A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035-996E-41FC-BAF6-9161D5F0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157C4-1F5F-425F-9F9F-B1E569A4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BAD9F-763A-4EF7-9731-951D6E6B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EE356-8258-4EBD-8162-44B550EB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83420-EB67-4838-A05A-896B6FF6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45998-837C-4940-917A-8EAFA0FB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C080D-B702-40A6-84B1-4E9EBB51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02CCF-6B34-4A43-B13C-F7AD6318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8CF7F-5A5C-4104-B087-9468C47A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EC3C9-8265-4B7E-8B59-86417335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D3503-2125-43FE-A0F3-00381EBD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168-FB2D-43B0-BBDC-26B8FA62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2B2F4-E47B-4FF3-8840-3DB2C866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B1377-1FD9-4BF4-9CE1-862B05D3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FB69A-7ED1-4432-B882-A02CC9DD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0BBC5-AEA0-4AE7-8066-9D9BE95E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ED652-5869-43AD-BA24-9AD3F9F4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FF1-1818-4CFA-A665-D147199B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52D4-657D-4122-9225-99BAC809A1C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2E07-2F37-424A-84CF-169AE8A1352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A498-096D-4A68-8D70-B1928BF98AD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2BF6-3661-4ED4-9594-DE075566EB9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1395-298F-4D60-9432-DD445F947A3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0B53-C09A-42FD-AF51-3BA556CF3CD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83C0-10D7-44B3-B72E-CA160D0B898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otential.org.ru/pub/Info/ArtDt200509292052PH3C1J9/1_5.png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potential.org.ru/Info/ArtDt200502291619PH3C2J2" TargetMode="External"/><Relationship Id="rId4" Type="http://schemas.openxmlformats.org/officeDocument/2006/relationships/hyperlink" Target="http://dic.academic.ru/dic.nsf/ruwiki/241642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993600" y="3681360"/>
            <a:ext cx="7785360" cy="12985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"/>
          <p:cNvSpPr/>
          <p:nvPr/>
        </p:nvSpPr>
        <p:spPr>
          <a:xfrm>
            <a:off x="1214280" y="357120"/>
            <a:ext cx="70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чебного проекта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ичная система счисления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1428840" y="278604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рческое название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4071960" y="5214960"/>
            <a:ext cx="47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Автор: Малышев Василий Валентинович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TextBox 6"/>
          <p:cNvSpPr/>
          <p:nvPr/>
        </p:nvSpPr>
        <p:spPr>
          <a:xfrm>
            <a:off x="2500200" y="61437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ыктывкар 20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357120" y="428760"/>
            <a:ext cx="878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rbel"/>
              </a:rPr>
              <a:t>Основополагающий вопрос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Как представить информацию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rbel"/>
              </a:rPr>
              <a:t>Проблемный вопрос учебной темы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Как компьютер работает с числам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428760" y="2571840"/>
            <a:ext cx="492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Corbel"/>
              </a:rPr>
              <a:t>Учебные предметы: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математика, информатик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71680" y="4643280"/>
            <a:ext cx="42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Corbel"/>
              </a:rPr>
              <a:t>Участники: 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9-ые классы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3"/>
          <p:cNvSpPr/>
          <p:nvPr/>
        </p:nvSpPr>
        <p:spPr>
          <a:xfrm>
            <a:off x="785880" y="285840"/>
            <a:ext cx="82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Дидактические цели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- научить ориентироваться в «море» информации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- сформировать навыки самостоятельной работы, работы в команд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TextBox 4"/>
          <p:cNvSpPr/>
          <p:nvPr/>
        </p:nvSpPr>
        <p:spPr>
          <a:xfrm>
            <a:off x="642960" y="2643120"/>
            <a:ext cx="828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Методические задачи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- научить переводить числа из десятичной системы счисления в двоичную и наоборот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- сформировать умения и навыки выполнения арифметические операции над числами в двоичной записи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577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езультаты представления исследования:</a:t>
            </a: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- Презентация – гипотез и доказательств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- Буклет – интересные объекты, факты по теме исследования.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advTm="3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4"/>
          <p:cNvSpPr/>
          <p:nvPr/>
        </p:nvSpPr>
        <p:spPr>
          <a:xfrm>
            <a:off x="642960" y="357120"/>
            <a:ext cx="8286840" cy="65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Этапы и сроки проведения проекта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buClr>
                <a:srgbClr val="ff0000"/>
              </a:buClr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Организационно-подготовительный этап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(1 неделя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1. Постановка проблемы, выдвижение первых гипотез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2. Формирование групп, составление плана действи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3. Обсуждение возможных источников информации по поставленной проблеме, вопросов защиты авторских пра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4. Самостоятельное распределение заданий внутри групп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3"/>
          <p:cNvSpPr/>
          <p:nvPr/>
        </p:nvSpPr>
        <p:spPr>
          <a:xfrm>
            <a:off x="714240" y="214200"/>
            <a:ext cx="821556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Этапы и сроки проведения проекта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II. Экспериментально-аналитический этап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(2, 3 недели)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1. Участие в игре Ни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2. Анализ первых результатов иг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3. Корректировка плана (выдвижение новых гипотез и путей их проверки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4. Обсуждение, обобщение результатов исследований (общие выводы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3"/>
          <p:cNvSpPr/>
          <p:nvPr/>
        </p:nvSpPr>
        <p:spPr>
          <a:xfrm>
            <a:off x="642960" y="285840"/>
            <a:ext cx="807228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Этапы и сроки проведения проекта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III. 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(3, 4 недели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1. Выбор творческого названия проект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2. Оформление результатов исследования в виде презентации и буклет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3. Защита проект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4. Рефлексия деятельности участников проект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Картинка 2 из 9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3080" y="3048120"/>
            <a:ext cx="4495680" cy="380988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500040" y="214200"/>
            <a:ext cx="84297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Рекомендуемая литература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b80a"/>
                </a:solidFill>
                <a:uFillTx/>
                <a:latin typeface="Corbel"/>
              </a:rPr>
              <a:t>http://www.students.ru/referats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- российская коллекция рефератов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b80a"/>
                </a:solidFill>
                <a:uFillTx/>
                <a:latin typeface="Corbel"/>
              </a:rPr>
              <a:t>http://www.abc-people.com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- энциклопедия замечательных людей и идей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http://potential.org.ru/Info/ArtDt200502291619PH3C2J2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Игра "Ним", или как математики играют в игры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http://dic.academic.ru/dic.nsf/ruwiki/241642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Ним (игра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емакин И.Г. Информатика и ИКТ. Учебник для 9 класса. – М: БИНОМ, 2005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0:19:22Z</dcterms:created>
  <dc:creator>Admin</dc:creator>
  <dc:description/>
  <dc:language>en-US</dc:language>
  <cp:lastModifiedBy>Admin</cp:lastModifiedBy>
  <dcterms:modified xsi:type="dcterms:W3CDTF">2010-05-30T16:49:42Z</dcterms:modified>
  <cp:revision>10</cp:revision>
  <dc:subject/>
  <dc:title>Игра Ним</dc:title>
</cp:coreProperties>
</file>